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720-89EC-4807-AC97-B312A9A7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0DA-53D4-439B-8F75-CB2C6F5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C8B-D2E5-4BFE-82FD-08613C43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958-76D3-4045-B2BB-AF02323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D6A-8F46-4797-A8F6-994FBBD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6F93-EC82-4183-A82D-82DE52EE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067B-80F9-4B4B-A1E7-8D3C54DD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6F3E-3943-44B1-A91F-D251367A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EB17-8BA6-4916-A05A-54B2E408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1D3E-F81C-45D3-A481-57359196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548F-6007-421A-AC80-EC14784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A5D-C1C6-4A77-9869-202975CD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952-957A-43C3-A174-26632DC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EA36-FFD7-4D0C-8379-00C5E80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7B49-77C9-4732-ACB4-5153422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8CDE-3EF5-4B28-A35A-3BF57ADF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01D6-670F-4FE4-94CD-3AF5D780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02E-2339-4412-B526-D46AE66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918-8B7B-445B-B74E-E36F7BB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4F4-4E8F-4232-994D-76FB1682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F3E-5372-4C35-A4FE-2547901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4B4-1C76-47CA-AC5B-FCA46EF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698-80BC-4D82-B1CD-8704DED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441-07F0-4CE5-BFA5-9E1A9CC9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F7A-4080-4DB7-B776-CA3B6EE4DC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0C0-D854-4B49-8FD4-CC2FC9A727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CHEF KNIFE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and C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 Cu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611D649"/>
          <p:cNvPicPr/>
          <p:nvPr/>
        </p:nvPicPr>
        <p:blipFill>
          <a:blip r:embed="rId1"/>
          <a:stretch/>
        </p:blipFill>
        <p:spPr>
          <a:xfrm>
            <a:off x="5486400" y="2362320"/>
            <a:ext cx="342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551D3A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nife Safe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keep your knife sharp, it requires less pressure to use and you will less likely to slip and cut yourself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correct size knife for the job.  Hold the knife firmly, cut away from your body.  Always use a cutting board with a damp towel underneath to prevent slipp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not in use knives should visible, lying flat on the work surf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knife falls, do not try to catch it, step back and let it dro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carry a knife at your side with the point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ow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nives are to be washed and sanitized between uses at a designated area in the kitchen.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EV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lace a knife into a sink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handing someone a knife, hand it to them handle first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D9DA183F"/>
          <p:cNvPicPr/>
          <p:nvPr/>
        </p:nvPicPr>
        <p:blipFill>
          <a:blip r:embed="rId1"/>
          <a:stretch/>
        </p:blipFill>
        <p:spPr>
          <a:xfrm>
            <a:off x="609480" y="152280"/>
            <a:ext cx="8229600" cy="6705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905120" y="380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TOE&gt;&gt;&gt;&gt;&gt;&gt;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8920BA5"/>
          <p:cNvPicPr/>
          <p:nvPr/>
        </p:nvPicPr>
        <p:blipFill>
          <a:blip r:embed="rId1"/>
          <a:stretch/>
        </p:blipFill>
        <p:spPr>
          <a:xfrm>
            <a:off x="0" y="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080" y="3886200"/>
            <a:ext cx="7696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IFE HAND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hape should be simple and comfor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terial should be non-slip, and easy to sanitize and maint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Tang</a:t>
            </a:r>
            <a:br>
              <a:rPr sz="4000"/>
            </a:b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Wha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0" name="Picture 5" descr="A3CA61FB"/>
          <p:cNvPicPr/>
          <p:nvPr/>
        </p:nvPicPr>
        <p:blipFill>
          <a:blip r:embed="rId1"/>
          <a:stretch/>
        </p:blipFill>
        <p:spPr>
          <a:xfrm>
            <a:off x="228600" y="12952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609480" y="495288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ng-the section of the blade that extends through the knife handle.  Then fuller the tang the finer the knife.  The tang is secured by rivets or sealed to the hand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nife Cu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urne-seven sided “football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rge Dice-1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um Dice-1/2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 Dice-1/4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unoise-1/8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 Brunoise-1/16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ondel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on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ulien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e Julien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4D48C977"/>
          <p:cNvPicPr/>
          <p:nvPr/>
        </p:nvPicPr>
        <p:blipFill>
          <a:blip r:embed="rId1"/>
          <a:stretch/>
        </p:blipFill>
        <p:spPr>
          <a:xfrm rot="21424200">
            <a:off x="4576680" y="1294920"/>
            <a:ext cx="456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4088CEB"/>
          <p:cNvPicPr/>
          <p:nvPr/>
        </p:nvPicPr>
        <p:blipFill>
          <a:blip r:embed="rId1"/>
          <a:stretch/>
        </p:blipFill>
        <p:spPr>
          <a:xfrm>
            <a:off x="4343400" y="457200"/>
            <a:ext cx="4495680" cy="6019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QUE F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-SLI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.-JULIENN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.-DI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Y SHARP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ld knife at a constant 20° angle to the sharpening s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ways sharpen in the same dir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e the strokes on each side of equal number and of equal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a general rule, make 5 strokes on each side of the bl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4CCAE131"/>
          <p:cNvPicPr/>
          <p:nvPr/>
        </p:nvPicPr>
        <p:blipFill>
          <a:blip r:embed="rId5"/>
          <a:stretch/>
        </p:blipFill>
        <p:spPr>
          <a:xfrm>
            <a:off x="0" y="27432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7FE0910D"/>
          <p:cNvPicPr/>
          <p:nvPr/>
        </p:nvPicPr>
        <p:blipFill>
          <a:blip r:embed="rId1"/>
          <a:stretch/>
        </p:blipFill>
        <p:spPr>
          <a:xfrm>
            <a:off x="3962520" y="380880"/>
            <a:ext cx="49053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3276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PENING STE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ed not to sharpen the blade, but hone/realign the blade after sharpening +/or us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 the blade dulls, a burr forms as the edge rolls over, making the knife du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teel realigns and hones the bl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17:46Z</dcterms:created>
  <dc:creator>Michael J. Tomaseski</dc:creator>
  <dc:description/>
  <dc:language>en-US</dc:language>
  <cp:lastModifiedBy>mtomaseski</cp:lastModifiedBy>
  <dcterms:modified xsi:type="dcterms:W3CDTF">2008-09-11T12:05:14Z</dcterms:modified>
  <cp:revision>13</cp:revision>
  <dc:subject/>
  <dc:title>THE CHEF KNIFE</dc:title>
</cp:coreProperties>
</file>